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340-F722-4FD3-8BEB-B3EF80E9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7C7-B0E9-4C99-BF82-5FC429AB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07C-768D-4809-BE79-FA1C661E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513-3663-4CD1-9891-A7B29AF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AFC-D2EC-46C2-9319-D23C9CC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51B-A26E-4DC3-B902-4EAED3E4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F41-3BCF-4A1F-BF32-065AFE9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516-A426-4C99-9ABE-0E995A1F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66E-07DE-47B8-9B57-07622CC8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4E3-DB9A-4FB3-A638-EBEDB79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D35-9B93-463D-8612-77835C7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9F7-18A3-4A09-93AB-7D69EAB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42C-7FC5-4DCD-A045-756D6B0C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s5Book1" descr=""/>
          <p:cNvPicPr/>
          <p:nvPr/>
        </p:nvPicPr>
        <p:blipFill>
          <a:blip r:embed="rId1"/>
          <a:stretch/>
        </p:blipFill>
        <p:spPr>
          <a:xfrm>
            <a:off x="4800600" y="581040"/>
            <a:ext cx="4019400" cy="566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22856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порт и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View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S v.5.0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ков и почвенной характер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rcToGis0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rcToGis1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rcToGis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cToGis1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rcToGis1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cToGis1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cToGis1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rcToGis1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rcToGis1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rcToGis1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ToGis0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rcToGis1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rcToGis2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rcToGis2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rcToGis2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rcToGis2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rcToGis2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rcToGis2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rcToGis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rcToGis2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rcToGis2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rcToGis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rcToGis2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rcToGis3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rcToGis3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rcToGis3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rcToGis3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rcToGis3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rcToGis3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rcToGis3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rcToGis37" descr=""/>
          <p:cNvPicPr/>
          <p:nvPr/>
        </p:nvPicPr>
        <p:blipFill>
          <a:blip r:embed="rId1"/>
          <a:stretch/>
        </p:blipFill>
        <p:spPr>
          <a:xfrm>
            <a:off x="762120" y="5652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rcToGis3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cToGis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rcToGis3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rcToGis4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rcToGis4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457200"/>
            <a:ext cx="815364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ормирования файла форма *.xyz, который используется для импорта из ArcView в базу Gis участков и почвенной характеристики, воспользуйтесь для его формирования в ArcView скриптом ArcToGis. Скрипт ArcToGis находиться в каталоге проинсталлированного Gis v.5.0, подкаталоге 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координат скрипт также сбрасывает ряд параметров. Для варианта сброса участков - наименование владельца и адрес участка.  Для варианта сброса почвенной характеристики – агрогруппа, адрес или код участка, бал бонитета, индекс плодородия и тип земель. Эти данные берутся из таблицы формируемой в ArcView. Во время импорта скрипт ищет в таблице наименования полей. Если поле найдено, то будет считано значение в противном случае выскочит сообщение об ошибке. Наименования полей смотрите в руководстве пользователя Gis v.5.0 или в самом скрипте. При желании наименования поле в скрипте могут быть Вами изменены. Порядок полей в базе данных не имеет значения. Поле характеризующее тип угодий желательно, чтобы было текстовым (тип String), в противном случае необходимо подставить в скрипт строку Script.The.SetNumberFormat( "d" ) указывающую на вывод целочисленных номеров. Чтобы программа не выдавала ошибок во время импорта, не пытайтесь сбросить участки из ArcView без координат, при сбросе пустых объектов в файле *.xyz будет следующая строка "Polygon: Null"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04640"/>
            <a:ext cx="800100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производите экспорт в Gis5 записи поля Station должны име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ть одно символьное значение (поиск по адресу участка, к пример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Дiлянка № 001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UseAgro при экспорте почвенной характеристики создавайт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во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экспорта Вы можете не создавать поля House, Station, Pa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gro и UseAr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йте свои, но только скорректируйте макро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rcToGis.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Shape=theFtab.findfield("Shap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Field=theFTab.FindField("Hous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ThePoligon=theFTab.FindField("Sta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If (type = "почвенной характеристики"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Ops=theFTab.FindField("Pay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Agro=theFTab.FindField("Ag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   TheUseAgro=theFTab.FindField("UseAg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ите наименования полей "House", "Station" и т.п.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 существующие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rcToGis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cToGis0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cToGis0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cToGis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rcToGis0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3:35:07Z</dcterms:created>
  <dc:creator>Sergio</dc:creator>
  <dc:description/>
  <dc:language>en-US</dc:language>
  <cp:lastModifiedBy>Sergio</cp:lastModifiedBy>
  <dcterms:modified xsi:type="dcterms:W3CDTF">2002-06-18T14:26:30Z</dcterms:modified>
  <cp:revision>8</cp:revision>
  <dc:subject/>
  <dc:title>Геодезическая  информационная система  v.5.0.1</dc:title>
</cp:coreProperties>
</file>