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8F52A-1C63-4F01-B34B-2BF57AB50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67F17-028C-4467-87C6-A9028FA95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865EF-DBD9-4F25-B43A-4FF499187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9001D-5CF6-48BC-853D-E8A44A79E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953A2-1529-4BB5-B930-3CF1908DC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9CC68-914A-4A69-A407-478761E34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41A1E-70D4-4044-B0BE-527378059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8BE14-5B42-40BD-8889-72FDDD42D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C3DCE-EA61-48AE-AB7F-CF84ED881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D0A72-2007-4D73-94CE-B27D2AB92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564F2-70D1-455E-8534-6E302E416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004DF-C530-4A2D-9DD0-5013223C4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984CB-785A-44D9-B6B3-A1C0BAB4FF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Gis5Book1" descr=""/>
          <p:cNvPicPr/>
          <p:nvPr/>
        </p:nvPicPr>
        <p:blipFill>
          <a:blip r:embed="rId1"/>
          <a:stretch/>
        </p:blipFill>
        <p:spPr>
          <a:xfrm>
            <a:off x="4800600" y="609480"/>
            <a:ext cx="4019400" cy="56674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-360" y="2514600"/>
            <a:ext cx="48769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росмотр всех участков в</a:t>
            </a:r>
            <a:r>
              <a:rPr b="0" lang="uk-UA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IS v.5.0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ArcToGis42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ArcToGis43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ArcToGis44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ArcToGis45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ArcToGis46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ArcToGis47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ArcToGis41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80880" y="533520"/>
            <a:ext cx="8229600" cy="13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Gis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.5.0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отображение всех участков происходит отмеченным земельным участкам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еред просмотром рекомендую пересчитать площадь для всех участков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если это ещё не сделано ранее (к примеру, после импорта из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cView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8T13:35:07Z</dcterms:created>
  <dc:creator>Sergio</dc:creator>
  <dc:description/>
  <dc:language>en-US</dc:language>
  <cp:lastModifiedBy>Sergio</cp:lastModifiedBy>
  <dcterms:modified xsi:type="dcterms:W3CDTF">2002-06-18T14:19:44Z</dcterms:modified>
  <cp:revision>7</cp:revision>
  <dc:subject/>
  <dc:title>Геодезическая  информационная система  v.5.0.1</dc:title>
</cp:coreProperties>
</file>