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205E-9416-493D-9804-943B4C23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983-70EC-496E-9F42-E60FC569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9B02-9213-4E4F-A670-AB959ADE0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6F9-C1FF-486A-BA3A-E15C93E3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747-1AC7-49CE-A907-41A7DD19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812-DFD4-4D3E-88D2-63CE5F19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E7E5-D959-4E18-9CEA-AD6C7340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D67-A6D0-4750-84A6-8FC41F00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1960-71C9-4A4A-8B58-D7F18080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568-1A88-4AA5-A1C1-7DCDCB72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A7C3-DC4A-4E62-93F9-E1E2B7E5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FAFD-64B5-403F-B05F-E1486C03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A4EE-3DFD-4775-8E2F-474C3E2C4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https://www.gis.org.ua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0216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Инстал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Instal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501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ид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inis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501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57400" y="2062080"/>
            <a:ext cx="3229200" cy="2733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nglish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жмит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3573360"/>
            <a:ext cx="10764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03351 0.14236 E">
                                      <p:cBhvr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47920" y="1728720"/>
            <a:ext cx="4448160" cy="3400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494172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47920" y="1728720"/>
            <a:ext cx="4448160" cy="3400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inis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494172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28840" y="1328760"/>
            <a:ext cx="6286320" cy="5124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лечь содержимое архива в текущий кат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42100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28840" y="1328760"/>
            <a:ext cx="6286320" cy="512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лечь содержимое архива в текущий кат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3213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lo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юч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28920" y="2171880"/>
            <a:ext cx="4286160" cy="33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3440" y="1641600"/>
            <a:ext cx="6477120" cy="401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270828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ьте инсталляцион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-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360036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276720" y="385920"/>
          <a:ext cx="300816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5920"/>
                    <a:ext cx="30081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84360" y="5805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-mail: manager@gis.org.ua, admin@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 +38 (050) 597-00-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6381720"/>
            <a:ext cx="822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odetic Information System v.5.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pyright© 2002-2003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229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ПРОИЗВОДСТВО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/>
          </p:cNvPr>
          <p:cNvSpPr/>
          <p:nvPr/>
        </p:nvSpPr>
        <p:spPr>
          <a:xfrm>
            <a:off x="684360" y="44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w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ww.</a:t>
            </a:r>
            <a:r>
              <a:rPr b="0" lang="ru-RU" sz="7000" spc="-1" strike="noStrike">
                <a:solidFill>
                  <a:srgbClr val="b2b2b2"/>
                </a:solidFill>
                <a:latin typeface="Times New Roman"/>
              </a:rPr>
              <a:t>GIS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.org.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ид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00600" cy="360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79640" y="1413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39566 0.57292 E">
                                      <p:cBhvr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ccept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51640" y="5445000"/>
            <a:ext cx="10764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-0.32083 -0.09908 E"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7354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069 L 0.2816 0.09977 E">
                                      <p:cBhvr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08720" y="544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8720" y="544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501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8:08:15Z</dcterms:created>
  <dc:creator>Sergio</dc:creator>
  <dc:description/>
  <dc:language>en-US</dc:language>
  <cp:lastModifiedBy>Sergio</cp:lastModifiedBy>
  <dcterms:modified xsi:type="dcterms:W3CDTF">2005-03-26T08:49:10Z</dcterms:modified>
  <cp:revision>9</cp:revision>
  <dc:subject/>
  <dc:title>Инструкция по инсталляции</dc:title>
</cp:coreProperties>
</file>