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196-8E0D-4378-A068-FBB9FED5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3C2-55C5-4F85-9ABA-889AFC9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817-D148-42C2-8383-5E7AB3C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B1C-CA1A-406B-8F80-F381DDF1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BF7-FC58-496F-9F6E-50DE517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661-3661-4EC8-95FA-EA5FCD4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DCD-D99A-423F-8ED2-6526AB3F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984-FD3D-41CE-BEC7-EB573040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9DD-E1CB-4068-8FB5-2D5888D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8A8-2447-4D9F-8988-8619A80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921-A460-4C7A-8345-D6A1240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D1B-E2E5-4527-8FCB-D99C05E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0FC-7198-4809-9280-D9EA62121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hyperlink" Target="https://www.gis.org.u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17000" cy="5853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detic Information System v.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чёт и уравнивание теодолитного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жные пункты указывайте после ввода всех извест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360" y="5300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-0.10833 -0.45602 E">
                                      <p:cBhvr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Просмотр всех объек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220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-0.10035 0.36297 E">
                                      <p:cBhvr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68360" y="4724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02552 0.07962 E">
                                      <p:cBhvr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ите ход начиная с точки н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7280" y="5661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-0.03732 -0.5294 E">
                                      <p:cBhvr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аправление хода не верное, нажмите «Вычисление правых по ходу угл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21360" cy="4532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1989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-0.18715 0.5625 E">
                                      <p:cBhvr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нового хода нажмите левую кнопку мышки, на закладке «Ход 1», затем «Создать 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21360" cy="453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908000" y="5805360"/>
          <a:ext cx="792360" cy="3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5805360"/>
                    <a:ext cx="7923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35280" y="587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03941 -1.85185E-006 E">
                                      <p:cBhvr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Ход 2» и введите 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ввода всех ходов, выберите меню «Уравни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71640" y="5516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02552 -0.54004 E">
                                      <p:cBhvr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меню «Теодолитного хода» и далее требуемый алгоритм уравнивания или очистки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81360" y="1882800"/>
          <a:ext cx="1073160" cy="3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1360" y="1882800"/>
                    <a:ext cx="1073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60640" y="1873080"/>
          <a:ext cx="4038840" cy="14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60640" y="1873080"/>
                    <a:ext cx="403884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987640" y="184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16736 0.0794 E">
                                      <p:cBhvr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меню «Печ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64000" y="2276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10434 -0.06759 E">
                                      <p:cBhvr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кнопку «Расчёт и уравнивание теодолитных ходов и пик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85960" y="1600200"/>
            <a:ext cx="55720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9202E-006 L 0.15937 -0.2563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меню «Уравнивания теодолитных ход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371840" y="1897200"/>
          <a:ext cx="168444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71840" y="1897200"/>
                    <a:ext cx="16844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00720" y="1844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04913 0.05856 E">
                                      <p:cBhvr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22480" y="1600200"/>
            <a:ext cx="5097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76720" y="385920"/>
          <a:ext cx="300816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5920"/>
                    <a:ext cx="30081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8436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manager@gis.org.ua, admin@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 +38 (050) 597-00-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6381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detic Information System v.5.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© 2002-2003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5229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ПРОИЗВОДСТВО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/>
          </p:cNvPr>
          <p:cNvSpPr/>
          <p:nvPr/>
        </p:nvSpPr>
        <p:spPr>
          <a:xfrm>
            <a:off x="684360" y="44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w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ww.</a:t>
            </a:r>
            <a:r>
              <a:rPr b="0" lang="ru-RU" sz="7000" spc="-1" strike="noStrike">
                <a:solidFill>
                  <a:srgbClr val="b2b2b2"/>
                </a:solidFill>
                <a:latin typeface="Times New Roman"/>
              </a:rPr>
              <a:t>GIS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кнопку «Создать новую запи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1817640" cy="249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88000" y="1413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-0.32465 0.05556 E">
                                      <p:cBhvr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579760" cy="223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2000" y="162864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наименование проек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также укажите прочие пара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0.16736 0.12152 E">
                                      <p:cBhvr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6560" y="2133720"/>
            <a:ext cx="2579400" cy="223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Сохран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08472 0.16343 E">
                                      <p:cBhvr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86120" y="1114560"/>
            <a:ext cx="1820880" cy="250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Выбор проек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11614 -0.24606 E">
                                      <p:cBhvr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Пунк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2882 0.24746 E">
                                      <p:cBhvr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левую кнопку мышки на таблице исход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79640" y="4724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04132 0.04814 E">
                                      <p:cBhvr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ите все известные пун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9:14:05Z</dcterms:created>
  <dc:creator>Sergio</dc:creator>
  <dc:description/>
  <dc:language>en-US</dc:language>
  <cp:lastModifiedBy>Sergio</cp:lastModifiedBy>
  <dcterms:modified xsi:type="dcterms:W3CDTF">2005-03-26T08:49:54Z</dcterms:modified>
  <cp:revision>10</cp:revision>
  <dc:subject/>
  <dc:title>Geodetic Information System v.5.2</dc:title>
</cp:coreProperties>
</file>