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4F2-19DA-4E03-9265-8AB3BBCC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C04-17BD-4C93-A938-1A55F43D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E24-F6A5-4EC4-B0C0-82AAE1DE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857-2ECB-46BA-AC49-279B0AC2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F98-963E-431F-902E-FCF4C94C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8FD-D12F-4054-9181-14CED59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842-CF84-454A-8DAB-07A06B1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742-9DC3-45F7-A43A-67496569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CCD-36D1-45AD-9DEF-5302D210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14F-B585-4F91-B71B-EBCAE01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59D-3AD9-4DFC-B770-9C56217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CAE-1C88-416A-8D8D-F45F59A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38E-5B21-49D5-ACA0-DE0B4411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081" r="0" b="23081"/>
          <a:stretch/>
        </p:blipFill>
        <p:spPr>
          <a:xfrm>
            <a:off x="114480" y="69840"/>
            <a:ext cx="892152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міна коефіцієнтів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декс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головному вікні програми оберіть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ню «Списки», «Збірники ці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-0.13195 -0.26713 E">
                                      <p:cBhvr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еріть запис з збірником цін 2001 року та натисніть кнопку «Коефіцієнти індексації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67280" y="3500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-0.0059 -0.07801 E"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едіть дані що до індекс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40360" y="299736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-0.04531 0.0375 E">
                                      <p:cBhvr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01.01.2008, Індексація розцінок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061*0.994*1.082*1.123*1.103*1.116*1.16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4292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01371 0.06898 E">
                                      <p:cBhvr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 редагуванні параметрів кошторис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тисніть кноп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ефіцієнт індексац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32000" y="263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0.11215 -0.03611 E">
                                      <p:cBhvr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гляд коштор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2421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0.11614 -0.00463 E">
                                      <p:cBhvr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10:19Z</dcterms:created>
  <dc:creator>Sergio</dc:creator>
  <dc:description/>
  <dc:language>en-US</dc:language>
  <cp:lastModifiedBy>Sergio</cp:lastModifiedBy>
  <dcterms:modified xsi:type="dcterms:W3CDTF">2008-09-23T09:54:12Z</dcterms:modified>
  <cp:revision>6</cp:revision>
  <dc:subject/>
  <dc:title>Слайд 1</dc:title>
</cp:coreProperties>
</file>